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B3C-B511-434F-9DC6-34B534F2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21B-1E58-4DB6-AAD7-0532A95C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B78-A3A3-4159-A089-3AE228AF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B8C-B501-490D-871D-BB1A2DCA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758-429A-4538-99CE-28BCF54E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73A-155C-4694-AB1B-AB174109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491-BC28-48F3-9E5E-B8219090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708-78AD-4833-B885-DE2ECFA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088-B86B-4097-97E7-33A5EA4B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6CE-C06C-4ADD-B52A-2D6A4FD1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D58-C9D0-43F7-B5AB-F46F164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E55-BD1E-497E-8023-8E4298B9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E4B1-C82C-46FE-9215-4CD783446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0"/>
          <a:ext cx="7543800" cy="66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54380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5141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05740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463 et pr0n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lancher dev/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n ti mot des intéressé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hacking</a:t>
            </a:r>
            <a:br>
              <a:rPr sz="4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( sploits and sec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2057400"/>
            <a:ext cx="723888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obablement à la st-valentin 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(cut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rrection individuelle (pas l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u moins 70%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aintenant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concurrent : madquebec, LJNB: dead, essayer de remplacer en bouffant les articles via L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; design : 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diffé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 aboutus database exploits products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projects services doors ju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: submis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WiL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edied      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BSD, speed++, P3 500, 2 NS (NT+B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membres enh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Cas pyrof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438280"/>
            <a:ext cx="7620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xemple IGA / TSA (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as juste Mulder pis Patoff ( Nuclear, TheDamned pis un autre (si on aurait pas défacé le site on l’aurait su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Section phreak déficiante du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oyen d’aller chercher ça ailleu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321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13372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oublie la sod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e sont pas des f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T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va aller les voir pis les j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Times New Roman"/>
              </a:rPr>
              <a:t>T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643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r Wyzeman et LastCall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3" name="happy2003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h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as pyrofreak (fusio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mi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uxième eZine sept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roisième eZine déc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ext eZine ??? DEM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05740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HE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509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4048200"/>
            <a:ext cx="397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22860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41960" y="4624560"/>
            <a:ext cx="3902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92468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246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4800600"/>
            <a:ext cx="3824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3-01-18T19:40:58Z</dcterms:modified>
  <cp:revision>24</cp:revision>
  <dc:subject/>
  <dc:title>Présentation PowerPoint</dc:title>
</cp:coreProperties>
</file>